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C60-CF03-45ED-957A-83F3382E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1EF1-A98E-407D-9E1E-76634F19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46B-3937-4E6A-A02E-B5ACAEE5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4C18-D8B6-48A3-AA27-464EF6910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A4EA-6A74-421D-9B8D-D0257923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E5AC-6259-44B6-9B1F-F5BD2709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5CF6-1810-4A42-A578-75A5180E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C62E-B9C7-49B6-A8A6-988CC2AD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E4E0-2375-48E8-9627-64639E13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E2A0-C509-4BFE-9D98-9E26DD63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312E-B015-4119-9565-56A352AF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FF3-113B-4623-BD84-C4FD7080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7377-8594-4E39-9565-3FE049FB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8DC2-C822-4436-97EC-3B2481A5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3737-B2D8-4F29-827D-220EC8CC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E02F-A39A-4498-940C-D4DD87F0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9837-4767-4AA3-9BFC-27550F8A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32A-FBEF-4E4C-9894-4FEA27BA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45A-E832-4C8F-BC06-5103B28E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6023-715F-458E-8F54-3D00E7BB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9938-2A65-4894-AC65-C9C187AA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6147-0C22-4F63-9AB7-C2449082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35E-52AE-49F9-903C-2BE91A3E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7899-5E66-4DAA-8BC2-CAB29DD6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77BC-9D56-4D0C-B0EA-27744BB2DF1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7286-58B5-426D-9D79-11FCE0A238B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lcome Mom and Dad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r. Lucc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Grade Spring Conferen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rch 18, 2009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440" y="2590920"/>
            <a:ext cx="3809880" cy="35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 you for coming!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y question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Read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 skills I have worked 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amma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unctuation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rite books I’ve read in clas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S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Wide Windo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Secret Of Platform 13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Mat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16256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 skills that I have worked 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ometry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ultipl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ng Divis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im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rite activity in math wa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Million Dollar Projec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ience and Social Stud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uilding circui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xperimenting with wires, bulbs, and batteri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king Aquariums for fis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king Terrariums for bug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p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cial scientis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atitude and Longitu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209680" cy="1490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767720" y="2514600"/>
            <a:ext cx="1376280" cy="1374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>
            <a:off x="7543800" y="4008600"/>
            <a:ext cx="12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Wri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ll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anksgiving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ic Strip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ive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ory Start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urnal Topic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r Student Lett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favorite experience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4956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ing to U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ing circui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ing Soda in G.T.E with Mrs. Leve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3505320" cy="35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8" name=""/>
          <p:cNvSpPr/>
          <p:nvPr/>
        </p:nvSpPr>
        <p:spPr>
          <a:xfrm flipH="1">
            <a:off x="4343400" y="4267080"/>
            <a:ext cx="18288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’m good at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362320"/>
            <a:ext cx="716256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 need to work on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23623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r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 more of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p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Goals for the next three month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be better at cursive by trying to write my letters very well and by practicing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be a better reader by reading more ofte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be a better speller by studying more than I d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13:09Z</dcterms:created>
  <dc:creator>NSSD112</dc:creator>
  <dc:description/>
  <dc:language>en-US</dc:language>
  <cp:lastModifiedBy>nssd112</cp:lastModifiedBy>
  <dcterms:modified xsi:type="dcterms:W3CDTF">2009-06-04T15:28:36Z</dcterms:modified>
  <cp:revision>30</cp:revision>
  <dc:subject/>
  <dc:title>Welcome Mom and Dad!</dc:title>
</cp:coreProperties>
</file>